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19.jpeg" ContentType="image/jpeg"/>
  <Override PartName="/ppt/media/image18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12.wmf" ContentType="image/x-wmf"/>
  <Override PartName="/ppt/media/image15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ABA-3FDA-41A2-997A-C8626744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754-3B6C-40C1-8D8E-AF7FC1CB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331-491C-4D8D-B81E-10D250D8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3E5-D096-455C-88B4-59492218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4E14-9BBC-4B44-8F05-2FD114BC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53B5-43F4-4D93-A767-A5B3C6B9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0FD4-5A01-4973-BEAA-8527A347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99AB-7EE3-447B-AD92-936B8AA7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2405-015D-4A72-9697-F28E33C8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05D0-4A78-4E60-9B00-25CB1E05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9BAC-219F-4AFD-8ECB-7EF50240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AA30-23BA-4568-AFE2-914CBB42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B964-D2B7-4963-8645-74B7F63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94E4-BFC9-4D84-A545-67900734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DB97-A83B-4ED5-9080-CCA52702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5A70-2578-4A7C-94D4-2C36B731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10FE-8DD1-4DCF-97F5-A348A541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5CF-4712-4F3F-B01A-1F872FFB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297-F468-4DEC-B5CF-3F5FB717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D82-F675-478F-AFEE-0E202DB2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A1E-6316-4F8D-820F-C75537AF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A7E-5947-4E3F-A8C1-D0C3A241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4F9-3BFB-4837-8F04-86CC3043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8AE-47F6-43F2-8E32-FE4F9C9B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C747-4F4B-4B6C-AB46-2ED29F2988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5472-2C4E-48AC-AB0B-67377F3715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cc"/>
                </a:solidFill>
                <a:latin typeface="Bookman Old Style"/>
              </a:rPr>
              <a:t>Урок-встреча</a:t>
            </a:r>
            <a:br>
              <a:rPr sz="4800"/>
            </a:br>
            <a:r>
              <a:rPr b="0" lang="ru-RU" sz="4800" spc="-1" strike="noStrike">
                <a:solidFill>
                  <a:srgbClr val="ffcccc"/>
                </a:solidFill>
                <a:latin typeface="Bookman Old Style"/>
              </a:rPr>
              <a:t>с Антоном Павловичем Чеховым 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000760" y="2286000"/>
            <a:ext cx="328608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писателем-сатириком и челове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ook Antiqua"/>
              </a:rPr>
              <a:t>1860 - 19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chehov-photo-5"/>
          <p:cNvPicPr/>
          <p:nvPr/>
        </p:nvPicPr>
        <p:blipFill>
          <a:blip r:embed="rId1"/>
          <a:stretch/>
        </p:blipFill>
        <p:spPr>
          <a:xfrm>
            <a:off x="1187280" y="2205000"/>
            <a:ext cx="3527640" cy="4653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5214960" y="4643280"/>
            <a:ext cx="328608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ffff"/>
                </a:solidFill>
                <a:latin typeface="Book Antiqua"/>
              </a:rPr>
              <a:t>Учитель русского языка и литературы ГУО «Средняя школа № 11 г.Мозыря» Фоменко Юлия Никола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476360" y="33336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Rage Italic"/>
              </a:rPr>
              <a:t>              </a:t>
            </a:r>
            <a:r>
              <a:rPr b="1" i="1" lang="ru-RU" sz="4800" spc="-1" strike="noStrike">
                <a:solidFill>
                  <a:srgbClr val="ccecff"/>
                </a:solidFill>
                <a:latin typeface="Bookman Old Style"/>
              </a:rPr>
              <a:t>Моск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395280" y="1125360"/>
            <a:ext cx="266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Rage Italic"/>
              </a:rPr>
              <a:t> </a:t>
            </a:r>
            <a:r>
              <a:rPr b="0" lang="ru-RU" sz="2800" spc="-1" strike="noStrike">
                <a:solidFill>
                  <a:srgbClr val="99ff99"/>
                </a:solidFill>
                <a:latin typeface="Rage Italic"/>
              </a:rPr>
              <a:t>Московский университ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Rage Italic"/>
              </a:rPr>
              <a:t>1879 – 1884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211640" y="1125360"/>
            <a:ext cx="3456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Rage Italic"/>
              </a:rPr>
              <a:t>Начало литературного пу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Rage Italic"/>
              </a:rPr>
              <a:t>188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195640" y="4365720"/>
            <a:ext cx="40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99"/>
                </a:solidFill>
                <a:latin typeface="Rage Italic"/>
              </a:rPr>
              <a:t>Медицинская  практика</a:t>
            </a:r>
            <a:r>
              <a:rPr b="0" lang="ru-RU" sz="2800" spc="-1" strike="noStrike">
                <a:solidFill>
                  <a:srgbClr val="ff9900"/>
                </a:solidFill>
                <a:latin typeface="Rage Italic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8" descr="MCj04041710000[1]"/>
          <p:cNvPicPr/>
          <p:nvPr/>
        </p:nvPicPr>
        <p:blipFill>
          <a:blip r:embed="rId1"/>
          <a:stretch/>
        </p:blipFill>
        <p:spPr>
          <a:xfrm>
            <a:off x="5364000" y="4724280"/>
            <a:ext cx="1667160" cy="1822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" descr="j0304485"/>
          <p:cNvPicPr/>
          <p:nvPr/>
        </p:nvPicPr>
        <p:blipFill>
          <a:blip r:embed="rId2"/>
          <a:stretch/>
        </p:blipFill>
        <p:spPr>
          <a:xfrm>
            <a:off x="603360" y="2644920"/>
            <a:ext cx="2039760" cy="1757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0" descr="MCBS01145_0000[1]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38760" y="2644920"/>
            <a:ext cx="2246400" cy="151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10"/>
          <p:cNvSpPr/>
          <p:nvPr/>
        </p:nvSpPr>
        <p:spPr>
          <a:xfrm>
            <a:off x="4788000" y="1197000"/>
            <a:ext cx="3600360" cy="595008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403280" y="26028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Bookman Old Style"/>
              </a:rPr>
              <a:t>Раннее творчество 1880 – 1884 г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356000" y="1557360"/>
            <a:ext cx="288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4859280" y="1268280"/>
            <a:ext cx="40338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Rage Italic"/>
              </a:rPr>
              <a:t>«Смерть чиновник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Rage Italic"/>
              </a:rPr>
              <a:t>«Толстый и тонкий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Rage Italic"/>
              </a:rPr>
              <a:t>«Хамелеон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Rage Italic"/>
              </a:rPr>
              <a:t>«Хирургия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Rage Italic"/>
              </a:rPr>
              <a:t>«Лошадиная фамилия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Rage Italic"/>
              </a:rPr>
              <a:t>«Тоск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Rage Italic"/>
              </a:rPr>
              <a:t>«Унтер Пришибеев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Rage Italic"/>
              </a:rPr>
              <a:t>«Ванька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Rage Italic"/>
              </a:rPr>
              <a:t>«Мальчики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1">
            <a:hlinkClick r:id="rId1" action="ppaction://hlinksldjump"/>
          </p:cNvPr>
          <p:cNvSpPr/>
          <p:nvPr/>
        </p:nvSpPr>
        <p:spPr>
          <a:xfrm>
            <a:off x="6877080" y="6524640"/>
            <a:ext cx="503280" cy="217440"/>
          </a:xfrm>
          <a:custGeom>
            <a:avLst/>
            <a:gdLst>
              <a:gd name="textAreaLeft" fmla="*/ 14040 w 503280"/>
              <a:gd name="textAreaRight" fmla="*/ 489240 w 50328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9948" h="21600">
                <a:moveTo>
                  <a:pt x="0" y="0"/>
                </a:moveTo>
                <a:lnTo>
                  <a:pt x="49948" y="0"/>
                </a:lnTo>
                <a:lnTo>
                  <a:pt x="49948" y="21600"/>
                </a:lnTo>
                <a:lnTo>
                  <a:pt x="0" y="21600"/>
                </a:lnTo>
                <a:close/>
              </a:path>
              <a:path fill="lightenLess" w="49948" h="21600">
                <a:moveTo>
                  <a:pt x="0" y="0"/>
                </a:moveTo>
                <a:lnTo>
                  <a:pt x="49948" y="0"/>
                </a:lnTo>
                <a:lnTo>
                  <a:pt x="48548" y="1400"/>
                </a:lnTo>
                <a:lnTo>
                  <a:pt x="1400" y="1400"/>
                </a:lnTo>
                <a:close/>
              </a:path>
              <a:path fill="darken" w="49948" h="21600">
                <a:moveTo>
                  <a:pt x="49948" y="0"/>
                </a:moveTo>
                <a:lnTo>
                  <a:pt x="49948" y="21600"/>
                </a:lnTo>
                <a:lnTo>
                  <a:pt x="48548" y="20200"/>
                </a:lnTo>
                <a:lnTo>
                  <a:pt x="48548" y="1400"/>
                </a:lnTo>
                <a:close/>
              </a:path>
              <a:path fill="darkenLess" w="49948" h="21600">
                <a:moveTo>
                  <a:pt x="4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48" y="20200"/>
                </a:lnTo>
                <a:close/>
              </a:path>
              <a:path fill="lighten" w="4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48" h="21600">
                <a:moveTo>
                  <a:pt x="17967" y="10800"/>
                </a:moveTo>
                <a:lnTo>
                  <a:pt x="31980" y="3794"/>
                </a:lnTo>
                <a:lnTo>
                  <a:pt x="31980" y="17806"/>
                </a:lnTo>
                <a:close/>
              </a:path>
            </a:pathLst>
          </a:cu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95280" y="1341360"/>
            <a:ext cx="3600360" cy="583272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770040" y="2235240"/>
            <a:ext cx="3585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Псевдонимы А.П.Чех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Антоша Чехон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Анто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Ан.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он Антонио Чехон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Человек без селезё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Г.Балдас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и многие друг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Bookman Old Style"/>
              </a:rPr>
              <a:t>ПРЕБЫВАНИЕ НА САХАЛИНЕ (1890г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Bookman Old Style"/>
              </a:rPr>
              <a:t>ОТЪЕЗД ЗА ГРАНИЦУ(1891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Bookman Old Style"/>
              </a:rPr>
              <a:t>ПЕРЕЕЗД В МЕЛИХОВО(189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Bookman Old Style"/>
              </a:rPr>
              <a:t>ВЕНЧАНИЕ В МОСКВЕ С О.Л.КНИППЕР(1901 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Bookman Old Style"/>
              </a:rPr>
              <a:t>ЧЕХОВ СКОНЧАЛСЯ В БАДЕНВЕЙЛЕРЕ (1904г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685800" y="685800"/>
            <a:ext cx="8077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9449"/>
                <a:gd name="adj2" fmla="val 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Гимнастика для глаз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3" descr="Гла3"/>
          <p:cNvPicPr/>
          <p:nvPr/>
        </p:nvPicPr>
        <p:blipFill>
          <a:blip r:embed="rId1"/>
          <a:stretch/>
        </p:blipFill>
        <p:spPr>
          <a:xfrm>
            <a:off x="2895480" y="3124080"/>
            <a:ext cx="3533760" cy="281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4" descr="58"/>
          <p:cNvPicPr/>
          <p:nvPr/>
        </p:nvPicPr>
        <p:blipFill>
          <a:blip r:embed="rId1"/>
          <a:stretch/>
        </p:blipFill>
        <p:spPr>
          <a:xfrm>
            <a:off x="395280" y="1916280"/>
            <a:ext cx="876240" cy="1161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68 0.07817 C 0.55208 -0.18663 0.36996 -0.41651 0.12621 -0.43154 C -0.1066 -0.45097 -0.32396 -0.27428 -0.33854 -0.01642 C -0.35625 0.22017 -0.204 0.44242 0.01423 0.45814 C 0.21319 0.4704 0.40243 0.32355 0.41718 0.10199 C 0.43159 -0.09967 0.30434 -0.28931 0.11961 -0.3055 C -0.05174 -0.31753 -0.21181 -0.19426 -0.2224 -0.00925 C -0.23316 0.15726 -0.1316 0.31915 0.021 0.32771 C 0.15937 0.33927 0.28993 0.24445 0.30121 0.09413 C 0.30781 -0.0407 0.23142 -0.1709 0.11163 -0.17854 C 0.00642 -0.18663 -0.09896 -0.11471 -0.1066 -0.00046 C -0.11354 0.09852 -0.05903 0.19311 0.0283 0.20097 C 0.10121 0.20907 0.17743 0.16559 0.18125 0.08673 C 0.18802 0.02313 0.15937 -0.04463 0.10503 -0.05249 C 0.06093 -0.05249 0.01701 -0.03677 0.01041 0.00671 C 0.00642 0.03539 0.01423 0.06245 0.03541 0.07447 C 0.04635 0.07817 0.05399 0.07817 0.06475 0.07447 E">
                                      <p:cBhvr>
                                        <p:cTn id="6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4" descr="42"/>
          <p:cNvPicPr/>
          <p:nvPr/>
        </p:nvPicPr>
        <p:blipFill>
          <a:blip r:embed="rId1"/>
          <a:stretch/>
        </p:blipFill>
        <p:spPr>
          <a:xfrm>
            <a:off x="395280" y="2421000"/>
            <a:ext cx="1314360" cy="819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2073 C 5E-006 0.01157 0.08872 -0.07724 0.19775 -0.07724 L 0.65521 -0.07724 C 0.76424 -0.07724 0.85313 0.01157 0.85313 0.12073 L 0.85313 0.57123 C 0.85313 0.68085 0.76424 0.7729 0.65521 0.7729 L 0.19775 0.7729 C 0.08872 0.7729 5E-006 0.68085 5E-006 0.57123 Z">
                                      <p:cBhvr>
                                        <p:cTn id="1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4" descr="blbird"/>
          <p:cNvPicPr/>
          <p:nvPr/>
        </p:nvPicPr>
        <p:blipFill>
          <a:blip r:embed="rId1"/>
          <a:stretch/>
        </p:blipFill>
        <p:spPr>
          <a:xfrm>
            <a:off x="324000" y="155736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8756 C 0.00799 0.38252 0.02587 0.65634 0.09202 0.65172 C 0.18698 0.65172 0.19358 -0.26225 0.30677 -0.26503 C 0.40903 -0.26503 0.35452 0.53308 0.45295 0.53053 C 0.55538 0.53053 0.5 -0.04926 0.60972 -0.04926 C 0.70799 -0.04926 0.65365 0.34205 0.74115 0.34205 C 0.82518 0.34205 0.7816 0.04302 0.85834 0.04302 C 0.90209 0.04302 0.90521 0.12489 0.90938 0.18756 E">
                                      <p:cBhvr>
                                        <p:cTn id="18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4" descr="Иллюстр"/>
          <p:cNvPicPr/>
          <p:nvPr/>
        </p:nvPicPr>
        <p:blipFill>
          <a:blip r:embed="rId1"/>
          <a:stretch/>
        </p:blipFill>
        <p:spPr>
          <a:xfrm>
            <a:off x="1332000" y="0"/>
            <a:ext cx="6048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4" descr="Иллюстр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Bookman Old Style"/>
              </a:rPr>
              <a:t>Дом на Полицейской улице, где родился писатель в 1860 г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4" descr="дом,где род Чехов"/>
          <p:cNvPicPr/>
          <p:nvPr/>
        </p:nvPicPr>
        <p:blipFill>
          <a:blip r:embed="rId1"/>
          <a:stretch/>
        </p:blipFill>
        <p:spPr>
          <a:xfrm>
            <a:off x="468360" y="1484280"/>
            <a:ext cx="8424720" cy="537372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4" descr="Иллюстр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Bookman Old Style"/>
              </a:rPr>
              <a:t>Родители А.П. Чехо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ец – </a:t>
            </a:r>
            <a:r>
              <a:rPr b="0" i="1" lang="ru-RU" sz="4000" spc="-1" strike="noStrike">
                <a:solidFill>
                  <a:srgbClr val="ffffff"/>
                </a:solidFill>
                <a:latin typeface="Bookman Old Style"/>
              </a:rPr>
              <a:t>Павел Егорови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Мать – </a:t>
            </a:r>
            <a:r>
              <a:rPr b="0" i="1" lang="ru-RU" sz="4000" spc="-1" strike="noStrike">
                <a:solidFill>
                  <a:srgbClr val="ffffff"/>
                </a:solidFill>
                <a:latin typeface="Bookman Old Style"/>
              </a:rPr>
              <a:t>Евгения Яковле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0" descr="Perents"/>
          <p:cNvPicPr/>
          <p:nvPr/>
        </p:nvPicPr>
        <p:blipFill>
          <a:blip r:embed="rId1"/>
          <a:stretch/>
        </p:blipFill>
        <p:spPr>
          <a:xfrm>
            <a:off x="4680000" y="1125360"/>
            <a:ext cx="4464000" cy="554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ccecff"/>
                </a:solidFill>
                <a:latin typeface="Bookman Old Style"/>
              </a:rPr>
              <a:t>Дом и бакалейная лавка отца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релые годы жизни Чехов не раз говаривал в кружке родных и знаком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 В детстве у меня не было детства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лавка отца чехова"/>
          <p:cNvPicPr/>
          <p:nvPr/>
        </p:nvPicPr>
        <p:blipFill>
          <a:blip r:embed="rId1"/>
          <a:stretch/>
        </p:blipFill>
        <p:spPr>
          <a:xfrm>
            <a:off x="3780000" y="1484280"/>
            <a:ext cx="5364000" cy="5373720"/>
          </a:xfrm>
          <a:prstGeom prst="rect">
            <a:avLst/>
          </a:prstGeom>
          <a:ln w="28440">
            <a:solidFill>
              <a:srgbClr val="33cccc"/>
            </a:solidFill>
            <a:miter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ccecff"/>
                </a:solidFill>
                <a:latin typeface="Bookman Old Style"/>
              </a:rPr>
              <a:t>Греческая школа Таганрога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1867 г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Учеба в греческой школ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7" descr="таг-рог"/>
          <p:cNvPicPr/>
          <p:nvPr/>
        </p:nvPicPr>
        <p:blipFill>
          <a:blip r:embed="rId1"/>
          <a:stretch/>
        </p:blipFill>
        <p:spPr>
          <a:xfrm>
            <a:off x="3492360" y="1628640"/>
            <a:ext cx="5651640" cy="522936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2819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тол с гимнази-ческими принадлежностями на 2-ом этаже дома-лав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стол с гимназ принадлнежн"/>
          <p:cNvPicPr/>
          <p:nvPr/>
        </p:nvPicPr>
        <p:blipFill>
          <a:blip r:embed="rId1"/>
          <a:stretch/>
        </p:blipFill>
        <p:spPr>
          <a:xfrm>
            <a:off x="3348000" y="333360"/>
            <a:ext cx="5616720" cy="6524640"/>
          </a:xfrm>
          <a:prstGeom prst="rect">
            <a:avLst/>
          </a:prstGeom>
          <a:ln w="28440">
            <a:solidFill>
              <a:srgbClr val="33cccc"/>
            </a:solidFill>
            <a:miter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Bookman Old Style"/>
              </a:rPr>
              <a:t>Учёба в Таганрогской гимназии (1867-1879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гимназия, в которой род"/>
          <p:cNvPicPr/>
          <p:nvPr/>
        </p:nvPicPr>
        <p:blipFill>
          <a:blip r:embed="rId1"/>
          <a:stretch/>
        </p:blipFill>
        <p:spPr>
          <a:xfrm>
            <a:off x="539640" y="1844640"/>
            <a:ext cx="8353440" cy="4753080"/>
          </a:xfrm>
          <a:prstGeom prst="rect">
            <a:avLst/>
          </a:prstGeom>
          <a:ln w="28440">
            <a:solidFill>
              <a:srgbClr val="33cccc"/>
            </a:solidFill>
            <a:miter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Arial"/>
              </a:rPr>
              <a:t>Сводная ведомость успеваемости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868 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1 класс 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869 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2 класс 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870 г. - 3 класс 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неудовлетворительно</a:t>
            </a:r>
            <a:r>
              <a:rPr b="0" lang="ru-RU" sz="2600" spc="-1" strike="noStrike">
                <a:solidFill>
                  <a:srgbClr val="99ff99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география и арифмети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871 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3 класс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872 г. - 4 класс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ecff"/>
                </a:solidFill>
                <a:latin typeface="Arial"/>
              </a:rPr>
              <a:t>1873 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5 класс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неудовлетворительно</a:t>
            </a:r>
            <a:r>
              <a:rPr b="0" lang="ru-RU" sz="26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греческий язы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874 г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- 5 класс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1875 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6 класс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ecff"/>
                </a:solidFill>
                <a:latin typeface="Arial"/>
              </a:rPr>
              <a:t>1876 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7 класс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877 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8 класс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878 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9 класс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879 г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- 10 класс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успеш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Bookman Old Style"/>
              </a:rPr>
              <a:t>Антон Чехов получает аттестат зрел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619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ff99"/>
                </a:solidFill>
                <a:latin typeface="Arial"/>
              </a:rPr>
              <a:t>На аттестате зрелости отмечалась старательность ученика и его дисциплинирован-ность, что же касается склонностей, то тут значилась достаточно туманная формула: «любознательность по всем предметам одинаковая»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ff99"/>
                </a:solidFill>
                <a:latin typeface="Arial"/>
              </a:rPr>
              <a:t>Оценки в аттестате были пестрые- три  5,     три 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4 </a:t>
            </a:r>
            <a:r>
              <a:rPr b="0" lang="ru-RU" sz="2600" spc="-1" strike="noStrike">
                <a:solidFill>
                  <a:srgbClr val="99ff99"/>
                </a:solidFill>
                <a:latin typeface="Arial"/>
              </a:rPr>
              <a:t> и   четыре </a:t>
            </a:r>
            <a:r>
              <a:rPr b="1" lang="ru-RU" sz="2600" spc="-1" strike="noStrike">
                <a:solidFill>
                  <a:srgbClr val="99ff99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99ff99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183280" y="1413000"/>
            <a:ext cx="3960720" cy="5445000"/>
          </a:xfrm>
          <a:prstGeom prst="rect">
            <a:avLst/>
          </a:prstGeom>
          <a:ln w="28440">
            <a:solidFill>
              <a:srgbClr val="33cccc"/>
            </a:solidFill>
            <a:miter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4:18Z</dcterms:created>
  <dc:creator>Union</dc:creator>
  <dc:description/>
  <dc:language>en-US</dc:language>
  <cp:lastModifiedBy>YULIYA</cp:lastModifiedBy>
  <dcterms:modified xsi:type="dcterms:W3CDTF">2021-03-07T10:26:38Z</dcterms:modified>
  <cp:revision>8</cp:revision>
  <dc:subject/>
  <dc:title>Урок-встреча с Антоном Павловичем Чеховым</dc:title>
</cp:coreProperties>
</file>